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9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3.wmf" ContentType="image/x-wmf"/>
  <Override PartName="/ppt/media/image13.jpeg" ContentType="image/jpeg"/>
  <Override PartName="/ppt/media/image2.png" ContentType="image/png"/>
  <Override PartName="/ppt/media/image4.jpeg" ContentType="image/jpeg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9BA7-E539-4FF0-AF41-FBBA1F312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7A68-CB6F-4C10-9806-98A823E3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7E27-69C7-49B8-8EE6-27AA89AF1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014A-8ED2-4F70-A541-DEBD0EDB6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CD24-BA7A-4DE0-AE82-543AD1F8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19B4-3B10-48B6-B0D2-1C2A7121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3826-5D67-4211-8ED1-41940B36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ABE7-4A38-466E-BDB5-24BD1000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8C2F-6CA5-4250-A8E6-759F3736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DB41-E79E-48B0-9E3D-B069A5CC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7A99-B82E-4AA6-8A1B-849ADFF5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968A-6347-4AC8-BD4C-8BB1E035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3081-E53D-4184-958B-A52ABA72F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Favourite Place to play at St Joseph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Room 4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1332000" y="2205000"/>
          <a:ext cx="2508120" cy="213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2205000"/>
                    <a:ext cx="250812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476360" y="62064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16000" y="5950080"/>
            <a:ext cx="7632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I   am   swinging on the monkey  b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hayl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5591160" y="836640"/>
          <a:ext cx="5173560" cy="463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91160" y="836640"/>
                    <a:ext cx="517356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250920" y="3860640"/>
            <a:ext cx="597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I am playing soccer with Adam and Nikolas on the grass area. Micha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11280" y="5300640"/>
            <a:ext cx="80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am skipping on the play gr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Zya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95280" y="2637000"/>
          <a:ext cx="2662200" cy="243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637000"/>
                    <a:ext cx="2662200" cy="24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4788000" y="1197000"/>
          <a:ext cx="3168720" cy="237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1197000"/>
                    <a:ext cx="316872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44370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I like playing tag on the playground with Kaitlin.  I am chasing Kaitlin. Amber-R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1571760" y="517680"/>
          <a:ext cx="6168960" cy="514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71760" y="517680"/>
                    <a:ext cx="616896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24000" y="4327560"/>
            <a:ext cx="882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like playing on the monkey bars and it is really funny when Amber tickles me and I have to drop.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ikay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7093080" y="1989000"/>
          <a:ext cx="1834920" cy="218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93080" y="1989000"/>
                    <a:ext cx="1834920" cy="21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79280" y="5229360"/>
            <a:ext cx="835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I  was playing bullrush and I was running f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Jac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840"/>
                            </p:stCondLst>
                            <p:childTnLst>
                              <p:par>
                                <p:cTn id="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5.55556E-006 L -0.73229 0.01043 E">
                                      <p:cBhvr>
                                        <p:cTn id="12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971640" y="1197000"/>
          <a:ext cx="5557680" cy="363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1197000"/>
                    <a:ext cx="555768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0" y="5373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I can go on top the monkey bars, under them and along.  Charmain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15356E-006 L 0.27899 -0.00208 E">
                                      <p:cBhvr>
                                        <p:cTn id="18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2359080" y="907920"/>
          <a:ext cx="5092560" cy="367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59080" y="907920"/>
                    <a:ext cx="509256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0" y="5013360"/>
            <a:ext cx="75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I am walking along  Cale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2050920" y="-458640"/>
          <a:ext cx="3946680" cy="443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-458640"/>
                    <a:ext cx="3946680" cy="44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755640" y="5084640"/>
            <a:ext cx="7631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I am hoping on the hopscotch with Samantha waiting for her tu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harlo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5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3203640" y="765000"/>
          <a:ext cx="2676600" cy="428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765000"/>
                    <a:ext cx="2676600" cy="42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79280" y="616572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 am swinging along the bars with Cher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0T02:44:02Z</dcterms:created>
  <dc:creator>St Joseph's</dc:creator>
  <dc:description/>
  <dc:language>en-US</dc:language>
  <cp:lastModifiedBy>St Joseph's</cp:lastModifiedBy>
  <dcterms:modified xsi:type="dcterms:W3CDTF">2008-06-20T02:44:40Z</dcterms:modified>
  <cp:revision>2</cp:revision>
  <dc:subject/>
  <dc:title>Our Favourite Place to play at St Joseph</dc:title>
</cp:coreProperties>
</file>